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E19-6B1C-4DBB-BAA2-F6A0667C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D730-984F-485D-931F-DA87A364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E18-4DCE-46BA-865C-6627D7A5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0FA-FB91-41D9-89EA-52C073EA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A8E-5D16-47A3-90EE-B4BD02C8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368-7A10-4A48-8EF3-00452AB9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F9E-4394-4249-A946-E74F0190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0CF-3FE3-41DE-AEBD-C7D2CAF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6EC-306F-414F-8319-7CA2BDD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7F1-D9E5-42CC-925D-81303B48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861-502B-4A37-8944-D34E183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DB4-AE76-41D5-8E2B-6F5633E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DAF-8FF9-4AF8-B360-862305F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D4E-7480-4901-A490-4B999B5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A2E-99AA-415D-AE5A-A8DF4A8C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4 Which of the following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nt factor affecting population growt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oubling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ex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tal ferti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rude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rude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5 Infant mortality rate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5 Infant mortality rate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2_10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6 In which stage of demographic transition are birth rates stable and death rates decl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is situation does not occur in any of the f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6 In which stage of demographic transition are birth rates stable and death rates decl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is situation does not occur in any of the f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2_13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7 Population growth rates are lowest in _________ of the demographic tran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7 Population growth rates are lowest in _________ of the demographic tran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8 Dependency ratio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1 The country with the second-largest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8 Dependency ratio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9 According to Malthus, a growing population will even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to war with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utgrow its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ach an infini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 decimated by infectiou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ach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9 According to Malthus, a growing population will even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to war with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Outgrow its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ach an infini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 decimated by infectiou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ach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0 The most lethal global epidemic disease in recent years has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0 The most lethal global epidemic disease in recent years has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02_26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is diffuse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gio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al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ion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dif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is diffuse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gio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al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ocation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dif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1 The country with the second-largest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2_01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2 The number of people per unit of arable land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ithmetic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ysiologic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nd-us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opulation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2 The number of people per unit of arable land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ithmetic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Physiologic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nd-us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opulation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3 Given a choice, people are most likely to live in a place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3 Given a choice, people are most likely to live in a place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4 Which of the following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nt factor affecting population growt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oubling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x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tal ferti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rude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rude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11-04T15:27:02Z</dcterms:modified>
  <cp:revision>79</cp:revision>
  <dc:subject/>
  <dc:title>CRS Chapter 4</dc:title>
</cp:coreProperties>
</file>